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84A-4A82-42E2-B1EC-C3B60581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05D7-94DC-40D2-8143-682E1977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728-59B5-4671-8AE8-0480AFB2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D1B-D937-4305-86C3-269C9E34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C3A-4DB4-4C55-B3BE-CF0B7A9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FAC3-B614-47C7-899A-65FE7E06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AAF-7899-4F13-8246-7986554F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EB3-CB99-4AB0-83E0-67D9278F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8D45-5AA9-400D-9BF0-5041B37F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A7E-8C6C-4F65-B61E-0C862CE9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F46-C79D-4CFF-A04E-3C7DF870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F31-3174-49B8-A54B-429A1FCE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3BE9-160A-4659-B72E-755AAAAE22E4}" type="datetime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37A4-9F34-4A72-9B3D-365D7D4D37D9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85880" y="7142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scuss the use of compliance techn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116000" y="550080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x0006_This example shows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fail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the ‘door in the face’ techniq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" descr="Door in the face .jpg"/>
          <p:cNvPicPr/>
          <p:nvPr/>
        </p:nvPicPr>
        <p:blipFill>
          <a:blip r:embed="rId1"/>
          <a:stretch/>
        </p:blipFill>
        <p:spPr>
          <a:xfrm>
            <a:off x="755640" y="2133720"/>
            <a:ext cx="748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Why does the TNA work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Norm of reciprocity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ut only if you perceive the salesperson’s concessions to be voluntary/spontane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Perceptual contra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– initial offer (the cake) acts as an anchor/baseline, against which we compare the second offer (cupcake plus cookies) which suddenly seems much more impress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e foot-in-the-door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6840"/>
            <a:ext cx="57578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compliance technique whereby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mall reque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s made first and is then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followed u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with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arger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asked to sign a petition first then more likely to comply when next asked to make a don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foot_in_the_door-703355.jpg"/>
          <p:cNvPicPr/>
          <p:nvPr/>
        </p:nvPicPr>
        <p:blipFill>
          <a:blip r:embed="rId1"/>
          <a:stretch/>
        </p:blipFill>
        <p:spPr>
          <a:xfrm>
            <a:off x="6286680" y="1643040"/>
            <a:ext cx="241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Dickerson et al 199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y students were asked to conserve water in the dormitory shower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irst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sign a poster supporting shorter showers to sav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cond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ke a survey designed to make them think about their water wast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ata Collection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hower time was monito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sult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nts spent an average of 3.5 minutes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ime in the shower than the control group (no signature/survey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y it works: </a:t>
            </a:r>
            <a:br>
              <a:rPr sz="3200"/>
            </a:b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lf Perception Theory, Bem, (1972)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e perceive from the first request that we ar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the type of person who gives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hel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in this type of situation and 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future behaviour is guided by thi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nly works if the initial request is big enough to gain som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nse of commitmen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cause which is attributed by the individual t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dispositional </a:t>
            </a:r>
            <a:r>
              <a:rPr b="0" lang="en-GB" sz="3200" spc="-1" strike="noStrike">
                <a:solidFill>
                  <a:srgbClr val="f79646"/>
                </a:solidFill>
                <a:latin typeface="Calibri"/>
              </a:rPr>
              <a:t>(internal)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ll supported by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ff"/>
                </a:solidFill>
                <a:latin typeface="Calibri"/>
              </a:rPr>
              <a:t>Limitations of FIT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quests must b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socially accep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erception of th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cost/benefi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 both requ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ITD didn't work well when trying to persuad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blood donors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(Cialdidni and Ascani, 197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is said FITD has been used effectively to encourag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organ don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Why might this be so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3" descr="Blood_bank.jpg"/>
          <p:cNvPicPr/>
          <p:nvPr/>
        </p:nvPicPr>
        <p:blipFill>
          <a:blip r:embed="rId1"/>
          <a:stretch/>
        </p:blipFill>
        <p:spPr>
          <a:xfrm>
            <a:off x="7000920" y="1428840"/>
            <a:ext cx="182088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organ donor.jpg"/>
          <p:cNvPicPr/>
          <p:nvPr/>
        </p:nvPicPr>
        <p:blipFill>
          <a:blip r:embed="rId2"/>
          <a:stretch/>
        </p:blipFill>
        <p:spPr>
          <a:xfrm>
            <a:off x="7072200" y="3571920"/>
            <a:ext cx="155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How can FITD be made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ven more effectiv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dding </a:t>
            </a:r>
            <a:r>
              <a:rPr b="1" lang="en-GB" sz="3200" spc="-1" strike="noStrike">
                <a:solidFill>
                  <a:srgbClr val="ffc000"/>
                </a:solidFill>
                <a:latin typeface="Calibri"/>
              </a:rPr>
              <a:t>interim requests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(graduated commitment) can increase the likelihood of a person agreeing to a high cost request (also seen in Milgram’s obedience stud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f7f7f"/>
                </a:solidFill>
                <a:latin typeface="Calibri"/>
              </a:rPr>
              <a:t>Low-balling: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To good to be tru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at’s because its no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n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 low offer is mad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and when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commitment is elicite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it is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replaced with a higher offer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n the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pretenc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hat the lower one could not be honou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sed by salespeople, who say they have to check the offer made with their manager and then get back to you saying they have to offer a slightly higher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Calibri"/>
              </a:rPr>
              <a:t>The 7a.m. Start, Cialdini et al (197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Contro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 psychology experiment that started at 7 am only 24% compli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Experimenta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n psychology experiment, but were not told a time, 56% complied; later they were told that it started at 7 am and given the chance to drop out if they wanted, 95% of the 56% turned up as promis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b3a2c7"/>
                </a:solidFill>
                <a:latin typeface="Calibri"/>
              </a:rPr>
              <a:t>Commit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nce a commitment has been made you are likely to follow through with it even if the conditions change somewh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mitment to an individual seems more important than committing to the behaviour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the ‘sales-manager’ takes over the negotiating , the customer is more likely to pull out than if the original salesperson continues with the deal (Burger and Petty 198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77933c"/>
                </a:solidFill>
                <a:latin typeface="Calibri"/>
              </a:rPr>
              <a:t>Cognitive disson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having made a decision to purchase something (following the low offer), we justify the decision to ourselves; we are not just being rash because it seems like a bargain, we actually do need this item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f the item is then re-offered at a higher price, we will experience an uncomfortable state called cognitive dissonance if we then decide to pull out (suggesting that we did only want the item because it was a bargai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e are more likely to continue with the deal, making our behaviour consistent with our attitude  (we really do need this ite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at is compliance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2876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00040" y="185724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pliance is the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modification of behaviou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rom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direct pressure to respond to a request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direct pressure may not always be apparent to the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person making the request has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no power to enforc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ich method is most effe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Low-balling may be more effective than eithe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r DITF (Brownstein and Katvez (198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ps asked to donate to a museum fund under four conditions FITD, DITF, control): LB was most effective; the others were all simil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eople often feel they need to “return a favour”. This example of a social norm is based o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 principle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oor-in-the-face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at’s not all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Commitment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: Making people commit to something means that they will encounter personal and interpersonal pressure to behave consistently with that commit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ow-ball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oot-in-the -do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z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Door-in-the-face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007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large reques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is made first and is then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followed up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y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small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omeone calls asking for a large donation to a charity which is likely to be refused, they then ask for a smaller donations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is has proved to be far more effective than asking straight out for the same small don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door in face.jpg"/>
          <p:cNvPicPr/>
          <p:nvPr/>
        </p:nvPicPr>
        <p:blipFill>
          <a:blip r:embed="rId1"/>
          <a:stretch/>
        </p:blipFill>
        <p:spPr>
          <a:xfrm>
            <a:off x="5929200" y="2143080"/>
            <a:ext cx="2779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Cialdini et al (1975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0012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1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escort a group of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juvenile delinquents to the zoo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most refus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2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spend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2 hours per week as a peer counsellor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o juvenile delinquent children for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around 2 years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all ref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xperimental Group (the DITF)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sked to be peer counsellors and then asked to escort children to the zo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zoo trip.jpg"/>
          <p:cNvPicPr/>
          <p:nvPr/>
        </p:nvPicPr>
        <p:blipFill>
          <a:blip r:embed="rId1"/>
          <a:stretch/>
        </p:blipFill>
        <p:spPr>
          <a:xfrm>
            <a:off x="5500800" y="2214720"/>
            <a:ext cx="3340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1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Posing as representatives of the “Country Youth Counselling Program”, university students were asked if they would be willing to chaperone a group of Juvenile delinquents on a day trip to the zoo only 17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2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Students were asked to work as counsellors (for the JD’s) for up to 2 hours per week for a minimum of two year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Group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the above refusal was followed up with the zoo trip request this time there was 50% complian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lso tested whether the two requests needed to be done by the same requester in order to achieve compliance.  With two different requesters only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.5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valuating DITF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213920"/>
            <a:ext cx="77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ny studies support its effective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Evidence suggests it is more effective then FIT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y does it work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The norm of reciproc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lion with the thorn in its foo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elp those who help you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cultural conditioning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 salesman makes concession, you feel compelled to do the s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egan (1971)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re people bought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affle ticket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rom a person who had previously bought them 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soft drink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an from someone who had not bought them a drin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orm of Reciprocity is stronger than overall liking for the person making the request. People bought just as many raffle tickets from a confederate that they didn’t like as those who liked hi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‘That’s not all’ 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tras are added to an initial offer,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ten as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pparently spontaneous gestures of generos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Burger (1986) Field experi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 Experimenters manned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cupcake stall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t a cake s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upcakes were displayed without a pr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Pps asked how much a cupcakes were they were either tol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75cents and you get two free cookies” (40% bought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or... “75cents “ and then the second experimenter whispered something to the first who then said, “and you get two free cookies” (73% bought the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0:36:53Z</dcterms:created>
  <dc:creator>mandy</dc:creator>
  <dc:description/>
  <dc:language>en-US</dc:language>
  <cp:lastModifiedBy>Alex Murphy</cp:lastModifiedBy>
  <dcterms:modified xsi:type="dcterms:W3CDTF">2012-10-15T04:55:43Z</dcterms:modified>
  <cp:revision>56</cp:revision>
  <dc:subject/>
  <dc:title>Discuss the use of compliance techniques</dc:title>
</cp:coreProperties>
</file>