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394-7F7A-463A-819E-59D39C83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93E-73F4-4FB3-BEC5-63C36298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D9E-B1DD-4C74-ADB9-6A77D365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387-7C77-4456-B9EB-DF083E77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CC6-EC6E-4A13-844F-3EA1D123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44A-C73C-4BA9-A535-62138B3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393-F43A-4694-9D7F-2567F886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6A6-5B97-457B-987A-6A943F29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ED4-7E8A-4E0C-8E68-71D73AB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D1A-B1EA-4413-9602-4CF057F8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607-588C-4CAB-AED3-2582C07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F10-1A40-494D-A83B-00B32A6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0C1A-BF7B-4FD8-8553-F70C7DDBF1F7}" type="datetime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C991-FFE6-4E37-BC2C-6200C5FFE421}" type="slidenum"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85880" y="7142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scuss the use of compliance techn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116000" y="5500800"/>
            <a:ext cx="65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x0006_This example shows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failur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the ‘door in the face’ techniqu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" descr="Door in the face .jpg"/>
          <p:cNvPicPr/>
          <p:nvPr/>
        </p:nvPicPr>
        <p:blipFill>
          <a:blip r:embed="rId1"/>
          <a:stretch/>
        </p:blipFill>
        <p:spPr>
          <a:xfrm>
            <a:off x="755640" y="2133720"/>
            <a:ext cx="748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Why does the TNA work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2d050"/>
                </a:solidFill>
                <a:latin typeface="Calibri"/>
              </a:rPr>
              <a:t>Norm of reciprocity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ut only if you perceive the salesperson’s concessions to be voluntary/spontaneo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2d050"/>
                </a:solidFill>
                <a:latin typeface="Calibri"/>
              </a:rPr>
              <a:t>Perceptual contrast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– initial offer (the cake) acts as an anchor/baseline, against which we compare the second offer (cupcake plus cookies) which suddenly seems much more impress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e foot-in-the-door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6840"/>
            <a:ext cx="57578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 compliance technique whereby a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mall request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s made first and is then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followed up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with a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arger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asked to sign a petition first then more likely to comply when next asked to make a don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3" descr="foot_in_the_door-703355.jpg"/>
          <p:cNvPicPr/>
          <p:nvPr/>
        </p:nvPicPr>
        <p:blipFill>
          <a:blip r:embed="rId1"/>
          <a:stretch/>
        </p:blipFill>
        <p:spPr>
          <a:xfrm>
            <a:off x="6286680" y="1643040"/>
            <a:ext cx="241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Dickerson et al 199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y students were asked to conserve water in the dormitory shower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irst Request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sign a poster supporting shorter showers to sav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econd Request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ake a survey designed to make them think about their water wasta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ata Collection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hower time was monito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sult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icipants spent an average of 3.5 minutes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ime in the shower than the control group (no signature/survey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y it works: </a:t>
            </a:r>
            <a:br>
              <a:rPr sz="3200"/>
            </a:b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Self Perception Theory, Bem, (1972)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e perceive from the first request that we are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the type of person who gives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help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in this type of situation and ou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future behaviour is guided by this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ITD only works if the initial request is big enough to gain some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sense of commitmen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cause which is attributed by the individual t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dispositional </a:t>
            </a:r>
            <a:r>
              <a:rPr b="0" lang="en-GB" sz="3200" spc="-1" strike="noStrike">
                <a:solidFill>
                  <a:srgbClr val="f79646"/>
                </a:solidFill>
                <a:latin typeface="Calibri"/>
              </a:rPr>
              <a:t>(internal)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ll supported by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ff"/>
                </a:solidFill>
                <a:latin typeface="Calibri"/>
              </a:rPr>
              <a:t>Limitations of FIT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quests must be </a:t>
            </a:r>
            <a:r>
              <a:rPr b="0" lang="en-GB" sz="2800" spc="-1" strike="noStrike">
                <a:solidFill>
                  <a:srgbClr val="ff99ff"/>
                </a:solidFill>
                <a:latin typeface="Calibri"/>
              </a:rPr>
              <a:t>socially accep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erception of the </a:t>
            </a:r>
            <a:r>
              <a:rPr b="0" lang="en-GB" sz="2800" spc="-1" strike="noStrike">
                <a:solidFill>
                  <a:srgbClr val="ff99ff"/>
                </a:solidFill>
                <a:latin typeface="Calibri"/>
              </a:rPr>
              <a:t>cost/benefi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of both reque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ITD didn't work well when trying to persuade people to become </a:t>
            </a: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blood donors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(Cialdidni and Ascani, 197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is said FITD has been used effectively to encourage people to become </a:t>
            </a: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organ don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Why might this be so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3" descr="Blood_bank.jpg"/>
          <p:cNvPicPr/>
          <p:nvPr/>
        </p:nvPicPr>
        <p:blipFill>
          <a:blip r:embed="rId1"/>
          <a:stretch/>
        </p:blipFill>
        <p:spPr>
          <a:xfrm>
            <a:off x="7000920" y="1428840"/>
            <a:ext cx="182088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organ donor.jpg"/>
          <p:cNvPicPr/>
          <p:nvPr/>
        </p:nvPicPr>
        <p:blipFill>
          <a:blip r:embed="rId2"/>
          <a:stretch/>
        </p:blipFill>
        <p:spPr>
          <a:xfrm>
            <a:off x="7072200" y="3571920"/>
            <a:ext cx="155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How can FITD be made 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ven more effectiv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dding </a:t>
            </a:r>
            <a:r>
              <a:rPr b="1" lang="en-GB" sz="3200" spc="-1" strike="noStrike">
                <a:solidFill>
                  <a:srgbClr val="ffc000"/>
                </a:solidFill>
                <a:latin typeface="Calibri"/>
              </a:rPr>
              <a:t>interim requests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(graduated commitment) can increase the likelihood of a person agreeing to a high cost request (also seen in Milgram’s obedience stud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f7f7f"/>
                </a:solidFill>
                <a:latin typeface="Calibri"/>
              </a:rPr>
              <a:t>Low-balling: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To good to be tru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at’s because its not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an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 low offer is mad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and when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commitment is elicite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it is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replaced with a higher offer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n the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pretenc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hat the lower one could not be honou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Used by salespeople, who say they have to check the offer made with their manager and then get back to you saying they have to offer a slightly higher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Calibri"/>
              </a:rPr>
              <a:t>The 7a.m. Start, Cialdini et al (197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Control group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asked whether they would participate in a psychology experiment that started at 7 am only 24% compli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Experimental group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asked whether they would participate in an psychology experiment, but were not told a time, 56% complied; later they were told that it started at 7 am and given the chance to drop out if they wanted, 95% of the 56% turned up as promis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does low-balling work: </a:t>
            </a:r>
            <a:r>
              <a:rPr b="1" lang="en-GB" sz="4400" spc="-1" strike="noStrike">
                <a:solidFill>
                  <a:srgbClr val="b3a2c7"/>
                </a:solidFill>
                <a:latin typeface="Calibri"/>
              </a:rPr>
              <a:t>Commit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nce a commitment has been made you are likely to follow through with it even if the conditions change somewh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mitment to an individual seems more important than committing to the behaviour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the ‘sales-manager’ takes over the negotiating , the customer is more likely to pull out than if the original salesperson continues with the deal (Burger and Petty 198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does low-balling work: </a:t>
            </a:r>
            <a:r>
              <a:rPr b="1" lang="en-GB" sz="4400" spc="-1" strike="noStrike">
                <a:solidFill>
                  <a:srgbClr val="77933c"/>
                </a:solidFill>
                <a:latin typeface="Calibri"/>
              </a:rPr>
              <a:t>Cognitive disson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having made a decision to purchase something (following the low offer), we justify the decision to ourselves; we are not just being rash because it seems like a bargain, we actually do need this item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If the item is then re-offered at a higher price, we will experience an uncomfortable state called cognitive dissonance if we then decide to pull out (suggesting that we did only want the item because it was a bargai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e are more likely to continue with the deal, making our behaviour consistent with our attitude  (we really do need this item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at is compliance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2876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500040" y="1857240"/>
            <a:ext cx="8229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pliance is the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modification of behaviour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rom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direct pressure to respond to a request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direct pressure may not always be apparent to the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person making the request has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no power to enforc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ich method is most effec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Low-balling may be more effective than either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ITD or DITF (Brownstein and Katvez (198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ps asked to donate to a museum fund under four conditions FITD, DITF, control): LB was most effective; the others were all simil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hat are compliance techniques based o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Reciprocity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eople often feel they need to “return a favour”. This example of a social norm is based o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reciprocity principle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oor-in-the-face techniq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at’s not all techniq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What are compliance techniques based 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Commitment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: Making people commit to something means that they will encounter personal and interpersonal pressure to behave consistently with that commit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ow-ball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oot-in-the -do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az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Door-in-the-face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4007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a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large reques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is made first and is then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followed up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y a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small o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omeone calls asking for a large donation to a charity which is likely to be refused, they then ask for a smaller donations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is has proved to be far more effective than asking straight out for the same small don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door in face.jpg"/>
          <p:cNvPicPr/>
          <p:nvPr/>
        </p:nvPicPr>
        <p:blipFill>
          <a:blip r:embed="rId1"/>
          <a:stretch/>
        </p:blipFill>
        <p:spPr>
          <a:xfrm>
            <a:off x="5929200" y="2143080"/>
            <a:ext cx="2779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Cialdini et al (1975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0012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ontrol Group 1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ps were approached and asked to escort a group of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juvenile delinquents to the zoo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; most refus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ontrol Group 2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ps were approached and asked to spend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2 hours per week as a peer counsellor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o juvenile delinquent children for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around 2 years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; all refu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xperimental Group (the DITF)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sked to be peer counsellors and then asked to escort children to the zo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3" descr="zoo trip.jpg"/>
          <p:cNvPicPr/>
          <p:nvPr/>
        </p:nvPicPr>
        <p:blipFill>
          <a:blip r:embed="rId1"/>
          <a:stretch/>
        </p:blipFill>
        <p:spPr>
          <a:xfrm>
            <a:off x="5500800" y="2214720"/>
            <a:ext cx="3340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Control Group 1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 Posing as representatives of the “Country Youth Counselling Program”, university students were asked if they would be willing to chaperone a group of Juvenile delinquents on a day trip to the zoo only 17% compli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Control Group 2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 Students were asked to work as counsellors (for the JD’s) for up to 2 hours per week for a minimum of two year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Group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en the above refusal was followed up with the zoo trip request this time there was 50% complian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lso tested whether the two requests needed to be done by the same requester in order to achieve compliance.  With two different requesters only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0.5% compli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valuating DITF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213920"/>
            <a:ext cx="77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any studies support its effective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Evidence suggests it is more effective then FIT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y does it work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The norm of reciproc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lion with the thorn in its foo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elp those who help you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cultural conditioning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: salesman makes concession, you feel compelled to do the s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Regan (1971)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re people bought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raffle ticket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rom a person who had previously bought them a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soft drink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an from someone who had not bought them a drin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Norm of Reciprocity is stronger than overall liking for the person making the request. People bought just as many raffle tickets from a confederate that they didn’t like as those who liked him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‘That’s not all’ 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tras are added to an initial offer,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often as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pparently spontaneous gestures of generos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Burger (1986) Field experi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 Experimenters manned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cupcake stall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t a cake s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upcakes were displayed without a pr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en Pps asked how much a cupcakes were they were either tol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75cents and you get two free cookies” (40% bought cak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or... “75cents “ and then the second experimenter whispered something to the first who then said, “and you get two free cookies” (73% bought the cak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0:36:53Z</dcterms:created>
  <dc:creator>mandy</dc:creator>
  <dc:description/>
  <dc:language>en-US</dc:language>
  <cp:lastModifiedBy>Alex Murphy</cp:lastModifiedBy>
  <dcterms:modified xsi:type="dcterms:W3CDTF">2012-10-15T04:55:43Z</dcterms:modified>
  <cp:revision>56</cp:revision>
  <dc:subject/>
  <dc:title>Discuss the use of compliance techniques</dc:title>
</cp:coreProperties>
</file>