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221-5415-420D-8D35-DA9DE20D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3507-9D8D-4BB7-B839-8A7C5742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4A02-56BD-42B2-BC05-21720C36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D0ED-4AD3-4EBA-BCC0-ED9449B1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5DC6-9B5F-45D5-AA5A-44B19C7A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D70B-A93E-4613-8C39-5DA7AACF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D67F-69C9-4BA0-B96A-718E433C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2B02-89AF-42E0-865B-646E02E9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31D1-B59A-4265-8017-36345AF0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3D08-6EF6-4113-95E4-E70246B9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4DEE-585F-4AC2-BDB0-B6994AA5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9740-04A7-47CF-9D37-196A340B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A88D-A297-4C66-A19F-B371F849F225}" type="datetime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23FC-128D-4FA4-B8E1-F2ED84FE644E}" type="slidenum">
              <a:rPr b="0" lang="en-GB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785880" y="71424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Discuss the use of compliance techniq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116000" y="5500800"/>
            <a:ext cx="65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x0006_This example shows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failur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 the ‘door in the face’ techniqu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1" descr="Door in the face .jpg"/>
          <p:cNvPicPr/>
          <p:nvPr/>
        </p:nvPicPr>
        <p:blipFill>
          <a:blip r:embed="rId1"/>
          <a:stretch/>
        </p:blipFill>
        <p:spPr>
          <a:xfrm>
            <a:off x="755640" y="2133720"/>
            <a:ext cx="7488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2d050"/>
                </a:solidFill>
                <a:latin typeface="Calibri"/>
              </a:rPr>
              <a:t>Why does the TNA work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2d050"/>
                </a:solidFill>
                <a:latin typeface="Calibri"/>
              </a:rPr>
              <a:t>Norm of reciprocity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but only if you perceive the salesperson’s concessions to be voluntary/spontaneo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2d050"/>
                </a:solidFill>
                <a:latin typeface="Calibri"/>
              </a:rPr>
              <a:t>Perceptual contrast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– initial offer (the cake) acts as an anchor/baseline, against which we compare the second offer (cupcake plus cookies) which suddenly seems much more impress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The foot-in-the-door techniqu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356840"/>
            <a:ext cx="575784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A compliance technique whereby a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small request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s made first and is then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followed up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 with a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arger o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f asked to sign a petition first then more likely to comply when next asked to make a don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3" descr="foot_in_the_door-703355.jpg"/>
          <p:cNvPicPr/>
          <p:nvPr/>
        </p:nvPicPr>
        <p:blipFill>
          <a:blip r:embed="rId1"/>
          <a:stretch/>
        </p:blipFill>
        <p:spPr>
          <a:xfrm>
            <a:off x="6286680" y="1643040"/>
            <a:ext cx="24177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alibri"/>
              </a:rPr>
              <a:t>Dickerson et al 1992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iversity students were asked to conserve water in the dormitory shower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First Request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sign a poster supporting shorter showers to save wate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Second Request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ake a survey designed to make them think about their water wastag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Data Collection: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Shower time was monitor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Results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articipants spent an average of 3.5 minutes </a:t>
            </a:r>
            <a:r>
              <a:rPr b="0" lang="en-US" sz="2800" spc="-1" strike="noStrike">
                <a:solidFill>
                  <a:srgbClr val="ff6600"/>
                </a:solidFill>
                <a:latin typeface="Calibri"/>
              </a:rPr>
              <a:t>les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ime in the shower than the control group (no signature/survey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Why it works: </a:t>
            </a:r>
            <a:br>
              <a:rPr sz="3200"/>
            </a:br>
            <a:r>
              <a:rPr b="1" lang="en-GB" sz="3200" spc="-1" strike="noStrike">
                <a:solidFill>
                  <a:srgbClr val="f79646"/>
                </a:solidFill>
                <a:latin typeface="Calibri"/>
              </a:rPr>
              <a:t>Self Perception Theory, Bem, (1972);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We perceive from the first request that we are </a:t>
            </a:r>
            <a:r>
              <a:rPr b="1" lang="en-GB" sz="3200" spc="-1" strike="noStrike">
                <a:solidFill>
                  <a:srgbClr val="f79646"/>
                </a:solidFill>
                <a:latin typeface="Calibri"/>
              </a:rPr>
              <a:t>the type of person who gives 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help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 in this type of situation and ou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f79646"/>
                </a:solidFill>
                <a:latin typeface="Calibri"/>
              </a:rPr>
              <a:t>future behaviour is guided by this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FITD only works if the initial request is big enough to gain some </a:t>
            </a:r>
            <a:r>
              <a:rPr b="1" lang="en-GB" sz="3200" spc="-1" strike="noStrike">
                <a:solidFill>
                  <a:srgbClr val="f79646"/>
                </a:solidFill>
                <a:latin typeface="Calibri"/>
              </a:rPr>
              <a:t>sense of commitment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 cause which is attributed by the individual t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f79646"/>
                </a:solidFill>
                <a:latin typeface="Calibri"/>
              </a:rPr>
              <a:t>dispositional </a:t>
            </a:r>
            <a:r>
              <a:rPr b="0" lang="en-GB" sz="3200" spc="-1" strike="noStrike">
                <a:solidFill>
                  <a:srgbClr val="f79646"/>
                </a:solidFill>
                <a:latin typeface="Calibri"/>
              </a:rPr>
              <a:t>(internal)</a:t>
            </a:r>
            <a:r>
              <a:rPr b="1" lang="en-GB" sz="3200" spc="-1" strike="noStrike">
                <a:solidFill>
                  <a:srgbClr val="f79646"/>
                </a:solidFill>
                <a:latin typeface="Calibri"/>
              </a:rPr>
              <a:t> facto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ll supported by resear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ff"/>
                </a:solidFill>
                <a:latin typeface="Calibri"/>
              </a:rPr>
              <a:t>Limitations of FIT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Requests must be </a:t>
            </a:r>
            <a:r>
              <a:rPr b="0" lang="en-GB" sz="2800" spc="-1" strike="noStrike">
                <a:solidFill>
                  <a:srgbClr val="ff99ff"/>
                </a:solidFill>
                <a:latin typeface="Calibri"/>
              </a:rPr>
              <a:t>socially acceptab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Perception of the </a:t>
            </a:r>
            <a:r>
              <a:rPr b="0" lang="en-GB" sz="2800" spc="-1" strike="noStrike">
                <a:solidFill>
                  <a:srgbClr val="ff99ff"/>
                </a:solidFill>
                <a:latin typeface="Calibri"/>
              </a:rPr>
              <a:t>cost/benefit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of both reques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FITD didn't work well when trying to persuade people to become </a:t>
            </a:r>
            <a:r>
              <a:rPr b="0" lang="en-GB" sz="2400" spc="-1" strike="noStrike">
                <a:solidFill>
                  <a:srgbClr val="ff99ff"/>
                </a:solidFill>
                <a:latin typeface="Calibri"/>
              </a:rPr>
              <a:t>blood donors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(Cialdidni and Ascani, 197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his said FITD has been used effectively to encourage people to become </a:t>
            </a:r>
            <a:r>
              <a:rPr b="0" lang="en-GB" sz="2400" spc="-1" strike="noStrike">
                <a:solidFill>
                  <a:srgbClr val="ff99ff"/>
                </a:solidFill>
                <a:latin typeface="Calibri"/>
              </a:rPr>
              <a:t>organ dono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alibri"/>
              </a:rPr>
              <a:t>Why might this be so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3" descr="Blood_bank.jpg"/>
          <p:cNvPicPr/>
          <p:nvPr/>
        </p:nvPicPr>
        <p:blipFill>
          <a:blip r:embed="rId1"/>
          <a:stretch/>
        </p:blipFill>
        <p:spPr>
          <a:xfrm>
            <a:off x="7000920" y="1428840"/>
            <a:ext cx="1820880" cy="1785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organ donor.jpg"/>
          <p:cNvPicPr/>
          <p:nvPr/>
        </p:nvPicPr>
        <p:blipFill>
          <a:blip r:embed="rId2"/>
          <a:stretch/>
        </p:blipFill>
        <p:spPr>
          <a:xfrm>
            <a:off x="7072200" y="3571920"/>
            <a:ext cx="155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How can FITD be made 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even more effective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Adding </a:t>
            </a:r>
            <a:r>
              <a:rPr b="1" lang="en-GB" sz="3200" spc="-1" strike="noStrike">
                <a:solidFill>
                  <a:srgbClr val="ffc000"/>
                </a:solidFill>
                <a:latin typeface="Calibri"/>
              </a:rPr>
              <a:t>interim requests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(graduated commitment) can increase the likelihood of a person agreeing to a high cost request (also seen in Milgram’s obedience study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f7f7f"/>
                </a:solidFill>
                <a:latin typeface="Calibri"/>
              </a:rPr>
              <a:t>Low-balling: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To good to be true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at’s because its not!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 compliance technique in which an</a:t>
            </a:r>
            <a:r>
              <a:rPr b="0" lang="en-GB" sz="2800" spc="-1" strike="noStrike">
                <a:solidFill>
                  <a:srgbClr val="7f7f7f"/>
                </a:solidFill>
                <a:latin typeface="Calibri"/>
              </a:rPr>
              <a:t> low offer is made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, and when </a:t>
            </a:r>
            <a:r>
              <a:rPr b="0" lang="en-GB" sz="2800" spc="-1" strike="noStrike">
                <a:solidFill>
                  <a:srgbClr val="7f7f7f"/>
                </a:solidFill>
                <a:latin typeface="Calibri"/>
              </a:rPr>
              <a:t>commitment is elicited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, it is </a:t>
            </a:r>
            <a:r>
              <a:rPr b="0" lang="en-GB" sz="2800" spc="-1" strike="noStrike">
                <a:solidFill>
                  <a:srgbClr val="7f7f7f"/>
                </a:solidFill>
                <a:latin typeface="Calibri"/>
              </a:rPr>
              <a:t>replaced with a higher offer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on the </a:t>
            </a:r>
            <a:r>
              <a:rPr b="0" lang="en-GB" sz="2800" spc="-1" strike="noStrike">
                <a:solidFill>
                  <a:srgbClr val="7f7f7f"/>
                </a:solidFill>
                <a:latin typeface="Calibri"/>
              </a:rPr>
              <a:t>pretence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that the lower one could not be honour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Used by salespeople, who say they have to check the offer made with their manager and then get back to you saying they have to offer a slightly higher pr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000"/>
                </a:solidFill>
                <a:latin typeface="Calibri"/>
              </a:rPr>
              <a:t>The 7a.m. Start, Cialdini et al (1978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Control group: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When asked whether they would participate in a psychology experiment that started at 7 am only 24% compli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alibri"/>
              </a:rPr>
              <a:t>Experimental group: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When asked whether they would participate in an psychology experiment, but were not told a time, 56% complied; later they were told that it started at 7 am and given the chance to drop out if they wanted, 95% of the 56% turned up as promise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Why does low-balling work: </a:t>
            </a:r>
            <a:r>
              <a:rPr b="1" lang="en-GB" sz="4400" spc="-1" strike="noStrike">
                <a:solidFill>
                  <a:srgbClr val="b3a2c7"/>
                </a:solidFill>
                <a:latin typeface="Calibri"/>
              </a:rPr>
              <a:t>Commit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Once a commitment has been made you are likely to follow through with it even if the conditions change somewh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mmitment to an individual seems more important than committing to the behaviour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f the ‘sales-manager’ takes over the negotiating , the customer is more likely to pull out than if the original salesperson continues with the deal (Burger and Petty 198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Why does low-balling work: </a:t>
            </a:r>
            <a:r>
              <a:rPr b="1" lang="en-GB" sz="4400" spc="-1" strike="noStrike">
                <a:solidFill>
                  <a:srgbClr val="77933c"/>
                </a:solidFill>
                <a:latin typeface="Calibri"/>
              </a:rPr>
              <a:t>Cognitive dissona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having made a decision to purchase something (following the low offer), we justify the decision to ourselves; we are not just being rash because it seems like a bargain, we actually do need this item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If the item is then re-offered at a higher price, we will experience an uncomfortable state called cognitive dissonance if we then decide to pull out (suggesting that we did only want the item because it was a bargain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We are more likely to continue with the deal, making our behaviour consistent with our attitude  (we really do need this item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What is compliance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2876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Content Placeholder 2"/>
          <p:cNvSpPr/>
          <p:nvPr/>
        </p:nvSpPr>
        <p:spPr>
          <a:xfrm>
            <a:off x="500040" y="1857240"/>
            <a:ext cx="822960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ompliance is the </a:t>
            </a: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modification of behaviour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from  </a:t>
            </a: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direct pressure to respond to a request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 direct pressure may not always be apparent to the individ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 person making the request has </a:t>
            </a: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no power to enforce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Which method is most effectiv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Low-balling may be more effective than either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FITD or DITF (Brownstein and Katvez (198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Pps asked to donate to a museum fund under four conditions FITD, DITF, control): LB was most effective; the others were all simila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5690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f0"/>
                </a:solidFill>
                <a:latin typeface="Calibri"/>
              </a:rPr>
              <a:t>What are compliance techniques based on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Calibri"/>
              </a:rPr>
              <a:t>Reciprocity: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People often feel they need to “return a favour”. This example of a social norm is based on the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Calibri"/>
              </a:rPr>
              <a:t>reciprocity principle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Calibri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Door-in-the-face techniq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at’s not all techniq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What are compliance techniques based o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ff"/>
                </a:solidFill>
                <a:uFillTx/>
                <a:latin typeface="Calibri"/>
              </a:rPr>
              <a:t>Commitment</a:t>
            </a: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: Making people commit to something means that they will encounter personal and interpersonal pressure to behave consistently with that commitmen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Calibri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Low-ball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Foot-in-the -do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Haz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b0f0"/>
                </a:solidFill>
                <a:latin typeface="Calibri"/>
              </a:rPr>
              <a:t>Door-in-the-face techniqu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540072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 compliance technique in which a </a:t>
            </a:r>
            <a:r>
              <a:rPr b="0" lang="en-GB" sz="2800" spc="-1" strike="noStrike">
                <a:solidFill>
                  <a:srgbClr val="00b0f0"/>
                </a:solidFill>
                <a:latin typeface="Calibri"/>
              </a:rPr>
              <a:t>large request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is made first and is then </a:t>
            </a:r>
            <a:r>
              <a:rPr b="0" lang="en-GB" sz="2800" spc="-1" strike="noStrike">
                <a:solidFill>
                  <a:srgbClr val="00b0f0"/>
                </a:solidFill>
                <a:latin typeface="Calibri"/>
              </a:rPr>
              <a:t>followed up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by a </a:t>
            </a:r>
            <a:r>
              <a:rPr b="0" lang="en-GB" sz="2800" spc="-1" strike="noStrike">
                <a:solidFill>
                  <a:srgbClr val="00b0f0"/>
                </a:solidFill>
                <a:latin typeface="Calibri"/>
              </a:rPr>
              <a:t>small o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Someone calls asking for a large donation to a charity which is likely to be refused, they then ask for a smaller donations;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is has proved to be far more effective than asking straight out for the same small don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3" descr="door in face.jpg"/>
          <p:cNvPicPr/>
          <p:nvPr/>
        </p:nvPicPr>
        <p:blipFill>
          <a:blip r:embed="rId1"/>
          <a:stretch/>
        </p:blipFill>
        <p:spPr>
          <a:xfrm>
            <a:off x="5929200" y="2143080"/>
            <a:ext cx="27799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Cialdini et al (1975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50012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ontrol Group 1: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Pps were approached and asked to escort a group of </a:t>
            </a:r>
            <a:r>
              <a:rPr b="0" lang="en-GB" sz="2400" spc="-1" strike="noStrike">
                <a:solidFill>
                  <a:srgbClr val="92d050"/>
                </a:solidFill>
                <a:latin typeface="Calibri"/>
              </a:rPr>
              <a:t>juvenile delinquents to the zoo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; most refus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Control Group 2: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Pps were approached and asked to spend </a:t>
            </a:r>
            <a:r>
              <a:rPr b="0" lang="en-GB" sz="2400" spc="-1" strike="noStrike">
                <a:solidFill>
                  <a:srgbClr val="92d050"/>
                </a:solidFill>
                <a:latin typeface="Calibri"/>
              </a:rPr>
              <a:t>2 hours per week as a peer counsellor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o juvenile delinquent children for </a:t>
            </a:r>
            <a:r>
              <a:rPr b="0" lang="en-GB" sz="2400" spc="-1" strike="noStrike">
                <a:solidFill>
                  <a:srgbClr val="92d050"/>
                </a:solidFill>
                <a:latin typeface="Calibri"/>
              </a:rPr>
              <a:t>around 2 years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; all refus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Experimental Group (the DITF):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asked to be peer counsellors and then asked to escort children to the zoo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3" descr="zoo trip.jpg"/>
          <p:cNvPicPr/>
          <p:nvPr/>
        </p:nvPicPr>
        <p:blipFill>
          <a:blip r:embed="rId1"/>
          <a:stretch/>
        </p:blipFill>
        <p:spPr>
          <a:xfrm>
            <a:off x="5500800" y="2214720"/>
            <a:ext cx="33400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alibri"/>
              </a:rPr>
              <a:t>Control Group 1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: Posing as representatives of the “Country Youth Counselling Program”, university students were asked if they would be willing to chaperone a group of Juvenile delinquents on a day trip to the zoo only 17% compli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alibri"/>
              </a:rPr>
              <a:t>Control Group 2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: Students were asked to work as counsellors (for the JD’s) for up to 2 hours per week for a minimum of two year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Calibri"/>
              </a:rPr>
              <a:t>Group: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When the above refusal was followed up with the zoo trip request this time there was 50% complianc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Also tested whether the two requests needed to be done by the same requester in order to achieve compliance.  With two different requesters only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10.5% complied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Evaluating DITF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8400" y="1213920"/>
            <a:ext cx="77864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Many studies support its effectiven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Evidence suggests it is more effective then FIT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Why does it work?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alibri"/>
              </a:rPr>
              <a:t>The norm of reciproc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The lion with the thorn in its foo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Help those who help you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alibri"/>
              </a:rPr>
              <a:t>cultural conditioning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: salesman makes concession, you feel compelled to do the sam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Calibri"/>
              </a:rPr>
              <a:t>Regan (1971)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More people bought </a:t>
            </a:r>
            <a:r>
              <a:rPr b="0" lang="en-GB" sz="2000" spc="-1" strike="noStrike">
                <a:solidFill>
                  <a:srgbClr val="ffff00"/>
                </a:solidFill>
                <a:latin typeface="Calibri"/>
              </a:rPr>
              <a:t>raffle tickets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from a person who had previously bought them a </a:t>
            </a:r>
            <a:r>
              <a:rPr b="0" lang="en-GB" sz="2000" spc="-1" strike="noStrike">
                <a:solidFill>
                  <a:srgbClr val="ffff00"/>
                </a:solidFill>
                <a:latin typeface="Calibri"/>
              </a:rPr>
              <a:t>soft drink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than from someone who had not bought them a drin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Norm of Reciprocity is stronger than overall liking for the person making the request. People bought just as many raffle tickets from a confederate that they didn’t like as those who liked him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‘That’s not all’ 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techniqu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 compliance technique in which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extras are added to an initial offer,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often as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pparently spontaneous gestures of generos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</a:rPr>
              <a:t>Burger (1986) Field experi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2 Experimenters manned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a cupcake stall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at a cake sa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cupcakes were displayed without a pri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When Pps asked how much a cupcakes were they were either told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040040" indent="-207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75cents and you get two free cookies” (40% bought cake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040040" indent="-207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or... “75cents “ and then the second experimenter whispered something to the first who then said, “and you get two free cookies” (73% bought the cake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0T00:36:53Z</dcterms:created>
  <dc:creator>mandy</dc:creator>
  <dc:description/>
  <dc:language>en-US</dc:language>
  <cp:lastModifiedBy>Alex Murphy</cp:lastModifiedBy>
  <dcterms:modified xsi:type="dcterms:W3CDTF">2012-10-15T04:55:43Z</dcterms:modified>
  <cp:revision>56</cp:revision>
  <dc:subject/>
  <dc:title>Discuss the use of compliance techniques</dc:title>
</cp:coreProperties>
</file>