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E57A1-CA07-4E60-AD61-B12D50B6B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86B1A-20BC-469B-BC52-F941005B2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1FB82-7614-4EF4-9784-07FC1D22E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54CB5-E021-4FC1-9CF8-2E109E41B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3057E-A132-41E6-BB3C-3403EBB7D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59B99-D293-4A07-8106-E27274FEA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15DEE-4285-44B6-8A0E-D2A1A6A50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B46C2-B460-4DDF-83B2-66AE588815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2CF8C-6BB0-4C03-B5AF-822CBAB44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B48CF-C969-4B59-8BC7-01B4E8A9D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476AB-A109-4A2B-9B3F-8D3D10613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BEA05-6622-4372-944B-2178699AF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93CC7-242F-445E-8C3E-7A1FD8109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9E22E-FC22-4C19-9A05-696B09D7E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F4BFC-87DC-490E-8C6B-692704C73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F152A2-344E-4A1C-98C5-8790869FB3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8218D-A422-4036-8D34-39D980F79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6FDCE-E22A-4047-BF31-BCBEDFD93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58D2A-E5E0-44D5-ADD2-E44D4C672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AF50D-AF78-44E1-AF11-34C3D0C42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77031-9216-46AE-8363-92568546F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F8BEA-86D6-4519-B1F3-D1F963B7E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6E6AB-982C-4912-B947-3B8D82D1C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A69EA-0208-4807-8ED0-705C77C36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333333"/>
                </a:gs>
                <a:gs pos="100000">
                  <a:srgbClr val="171717"/>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Click to edit the title text format</a:t>
            </a:r>
            <a:endParaRPr b="0" lang="en-US" sz="3600" spc="-1" strike="noStrike">
              <a:solidFill>
                <a:srgbClr val="fff4c3"/>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0720" indent="-2772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51960" indent="-2214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43771-E217-442D-9A01-2DE004E1015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Click to edit the title text format</a:t>
            </a:r>
            <a:endParaRPr b="0" lang="en-US" sz="3600" spc="-1" strike="noStrike">
              <a:solidFill>
                <a:srgbClr val="fff4c3"/>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0720" indent="-2772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51960" indent="-2214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A0B4-114A-4505-8A40-B11E5BE9DD7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333333">
              <a:alpha val="50000"/>
            </a:srgbClr>
          </a:solidFill>
          <a:ln w="7632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SYCHOLOGY </a:t>
            </a:r>
            <a:br>
              <a:rPr sz="5400"/>
            </a:br>
            <a:r>
              <a:rPr b="0" lang="en-GB" sz="5400" spc="-1" strike="noStrike">
                <a:solidFill>
                  <a:srgbClr val="ffffff"/>
                </a:solidFill>
                <a:latin typeface="Arial"/>
              </a:rPr>
              <a:t>Internal Assessment</a:t>
            </a:r>
            <a:endParaRPr b="0" lang="en-US" sz="5400" spc="-1" strike="noStrike">
              <a:solidFill>
                <a:srgbClr val="fff4c3"/>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333333">
              <a:alpha val="50000"/>
            </a:srgbClr>
          </a:solidFill>
          <a:ln w="7632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THOD</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Participants continued</a:t>
            </a:r>
            <a:endParaRPr b="0" lang="en-US" sz="3600" spc="-1" strike="noStrike">
              <a:solidFill>
                <a:srgbClr val="fff4c3"/>
              </a:solidFill>
              <a:latin typeface="Arial"/>
            </a:endParaRPr>
          </a:p>
        </p:txBody>
      </p:sp>
      <p:sp>
        <p:nvSpPr>
          <p:cNvPr id="105" name=""/>
          <p:cNvSpPr txBox="1"/>
          <p:nvPr/>
        </p:nvSpPr>
        <p:spPr>
          <a:xfrm>
            <a:off x="2438280" y="1600200"/>
            <a:ext cx="6400800" cy="449568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ive information about your participants; eg, specific number used, age, gender distribution, occupation, English proficiency etc.</a:t>
            </a:r>
            <a:endParaRPr b="0" lang="en-US" sz="2400" spc="-1" strike="noStrike">
              <a:solidFill>
                <a:srgbClr val="ffffff"/>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HINT – You would not use random sampling!</a:t>
            </a:r>
            <a:endParaRPr b="0" lang="en-US" sz="2400" spc="-1" strike="noStrike">
              <a:solidFill>
                <a:srgbClr val="ffffff"/>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Materials</a:t>
            </a:r>
            <a:endParaRPr b="0" lang="en-US" sz="3600" spc="-1" strike="noStrike">
              <a:solidFill>
                <a:srgbClr val="fff4c3"/>
              </a:solidFill>
              <a:latin typeface="Arial"/>
            </a:endParaRPr>
          </a:p>
        </p:txBody>
      </p:sp>
      <p:sp>
        <p:nvSpPr>
          <p:cNvPr id="107" name="PlaceHolder 2"/>
          <p:cNvSpPr>
            <a:spLocks noGrp="1"/>
          </p:cNvSpPr>
          <p:nvPr>
            <p:ph/>
          </p:nvPr>
        </p:nvSpPr>
        <p:spPr>
          <a:xfrm>
            <a:off x="2438280" y="1125000"/>
            <a:ext cx="6400800" cy="4970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list of materials developed for the experim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ndardized instruction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ormed cons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d lists, questionnaires, video clips depending on experim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briefing instruction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pies of the above must be referenced in the appendice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ecial equipment like projector and screen should be included. Not paper and pencils/pens/tables/chairs. </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PROCEDURE</a:t>
            </a:r>
            <a:endParaRPr b="0" lang="en-US" sz="3600" spc="-1" strike="noStrike">
              <a:solidFill>
                <a:srgbClr val="fff4c3"/>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be how materials were developed.</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need to report exactly what you did in your investigation so that it could be easily replicated.</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fer to any standardized instructions given. </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be when ethical issues were addressed. Briefing, Informed consent and debriefing. </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all of these are referenced in the appendices.</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can write this as a paragraph (better) or bullet point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RATIONALE/PURPOSE</a:t>
            </a:r>
            <a:endParaRPr b="0" lang="en-US" sz="3600" spc="-1" strike="noStrike">
              <a:solidFill>
                <a:srgbClr val="fff4c3"/>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acts like a ‘recipe’ for other researchers who may wish to replicate your research or use it to inform their own hypothesis. In other words, it shows other researchers </a:t>
            </a:r>
            <a:r>
              <a:rPr b="0" lang="en-GB" sz="3200" spc="-1" strike="noStrike" u="sng">
                <a:solidFill>
                  <a:srgbClr val="ffffff"/>
                </a:solidFill>
                <a:uFillTx/>
                <a:latin typeface="Arial"/>
              </a:rPr>
              <a:t>exactly</a:t>
            </a:r>
            <a:r>
              <a:rPr b="0" lang="en-GB" sz="3200" spc="-1" strike="noStrike">
                <a:solidFill>
                  <a:srgbClr val="ffffff"/>
                </a:solidFill>
                <a:latin typeface="Arial"/>
              </a:rPr>
              <a:t> what to 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B: Design – 2 mark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independent variable and dependent variable are accurately identified and operationalized. The experimental design is appropriate to the aim and its use is appropriately justified. There is clear indication and documentation of how ethical guidelines were followed.</a:t>
            </a: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3" name=""/>
          <p:cNvSpPr txBox="1"/>
          <p:nvPr/>
        </p:nvSpPr>
        <p:spPr>
          <a:xfrm>
            <a:off x="2438280" y="1600200"/>
            <a:ext cx="6400800" cy="4495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C: Participants – 2 mark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levant characteristics of the participants are identified. The sample is selected using an</a:t>
            </a:r>
            <a:r>
              <a:rPr b="0" lang="en-US" sz="2400" spc="-1" strike="noStrike">
                <a:solidFill>
                  <a:srgbClr val="ffffff"/>
                </a:solidFill>
                <a:latin typeface="Arial"/>
              </a:rPr>
              <a:t> appropriate method and the use of this method is explained. (HL only) The target population has been identified and is appropriate.</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5" name=""/>
          <p:cNvSpPr txBox="1"/>
          <p:nvPr/>
        </p:nvSpPr>
        <p:spPr>
          <a:xfrm>
            <a:off x="2438280" y="1600200"/>
            <a:ext cx="6400800" cy="4495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D: Procedure – 2 mark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dural information is relevant, clearly described and is easily replicable. Necessary materials have been included and referenced in the appendices. Ethical guidelines were followed.</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ea typeface="Arial"/>
              </a:rPr>
              <a:t>Layout</a:t>
            </a:r>
            <a:endParaRPr b="0" lang="en-US" sz="3600" spc="-1" strike="noStrike">
              <a:solidFill>
                <a:srgbClr val="fff4c3"/>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thod needs to be formally set out under 4 main sub heading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Design</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Participant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 Material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 Procedu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DESIGN</a:t>
            </a:r>
            <a:endParaRPr b="0" lang="en-US" sz="3600" spc="-1" strike="noStrike">
              <a:solidFill>
                <a:srgbClr val="fff4c3"/>
              </a:solidFill>
              <a:latin typeface="Arial"/>
            </a:endParaRPr>
          </a:p>
        </p:txBody>
      </p:sp>
      <p:sp>
        <p:nvSpPr>
          <p:cNvPr id="99" name="PlaceHolder 2"/>
          <p:cNvSpPr>
            <a:spLocks noGrp="1"/>
          </p:cNvSpPr>
          <p:nvPr>
            <p:ph/>
          </p:nvPr>
        </p:nvSpPr>
        <p:spPr>
          <a:xfrm>
            <a:off x="2438280" y="981000"/>
            <a:ext cx="6400800" cy="56880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which experimental design you used; was it repeated measures or independent groups?</a:t>
            </a:r>
            <a:endParaRPr b="0" lang="en-US" sz="2800" spc="-1" strike="noStrike">
              <a:solidFill>
                <a:srgbClr val="ffffff"/>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plain and justify why you chose the design that you did.</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cribe the controls you have undertaken to avoid extraneous variables. These could include design issues eg, order effects, biases; eg, sample and researcher bia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Design continued</a:t>
            </a:r>
            <a:endParaRPr b="0" lang="en-US" sz="3600" spc="-1" strike="noStrike">
              <a:solidFill>
                <a:srgbClr val="fff4c3"/>
              </a:solidFill>
              <a:latin typeface="Arial"/>
            </a:endParaRPr>
          </a:p>
        </p:txBody>
      </p:sp>
      <p:sp>
        <p:nvSpPr>
          <p:cNvPr id="101" name=""/>
          <p:cNvSpPr txBox="1"/>
          <p:nvPr/>
        </p:nvSpPr>
        <p:spPr>
          <a:xfrm>
            <a:off x="2438280" y="1600200"/>
            <a:ext cx="6400800" cy="4495680"/>
          </a:xfrm>
          <a:prstGeom prst="rect">
            <a:avLst/>
          </a:prstGeom>
          <a:noFill/>
          <a:ln w="0">
            <a:noFill/>
          </a:ln>
        </p:spPr>
        <p:txBody>
          <a:bodyPr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e your IV and DV.</a:t>
            </a:r>
            <a:endParaRPr b="0" lang="en-US" sz="3200" spc="-1" strike="noStrike">
              <a:solidFill>
                <a:srgbClr val="ffffff"/>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cument how ethical guidelines were followed, explain how consent was obtained and how briefing and debriefing were carried out.</a:t>
            </a:r>
            <a:endParaRPr b="0" lang="en-US" sz="3200" spc="-1" strike="noStrike">
              <a:solidFill>
                <a:srgbClr val="ffffff"/>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ke reference to ethical documents in the appendic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PARTICIPANTS</a:t>
            </a:r>
            <a:endParaRPr b="0" lang="en-US" sz="3600" spc="-1" strike="noStrike">
              <a:solidFill>
                <a:srgbClr val="fff4c3"/>
              </a:solidFill>
              <a:latin typeface="Arial"/>
            </a:endParaRPr>
          </a:p>
        </p:txBody>
      </p:sp>
      <p:sp>
        <p:nvSpPr>
          <p:cNvPr id="103" name="PlaceHolder 2"/>
          <p:cNvSpPr>
            <a:spLocks noGrp="1"/>
          </p:cNvSpPr>
          <p:nvPr>
            <p:ph/>
          </p:nvPr>
        </p:nvSpPr>
        <p:spPr>
          <a:xfrm>
            <a:off x="2438280" y="1196640"/>
            <a:ext cx="6400800" cy="511164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target population. This is the only population that you will be able to generalize your results to.</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must also state what type of sampling method you used, was this volunteer (self selected) sampling or other type of opportunity sampling?</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ustify the use of the sampling technique.</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cribe how participants were allocated to conditions if relevant.</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2:12:57Z</dcterms:created>
  <dc:creator>Ossett School</dc:creator>
  <dc:description/>
  <dc:language>en-US</dc:language>
  <cp:lastModifiedBy>Alex Murphy</cp:lastModifiedBy>
  <dcterms:modified xsi:type="dcterms:W3CDTF">2012-09-29T13:02:37Z</dcterms:modified>
  <cp:revision>24</cp:revision>
  <dc:subject/>
  <dc:title>PSYCHOLOGY COURSEWORK</dc:title>
</cp:coreProperties>
</file>